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AA2-ECB6-4935-B062-344383C4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A42-92D5-4717-A827-609A003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CA1FD-D324-4340-B387-B518E86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757D3-0F19-4DC9-84A7-D1B5142B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9465B-B47F-447A-9ABD-B4F557D4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4213B-6D03-4123-8EE2-5DB68A9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E51B2-421B-4CE7-8D18-EC8C811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F2318-2AF8-4B79-B316-5CACA6E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C11CE-0A3E-4FC1-AE82-97ECF57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302AC-922E-4937-B0D0-D7A6D9A5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53CC5-5685-40F3-A9A4-729AC0C9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9A83-57A5-43EB-8CCB-33066C8D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234-E844-4251-B2FD-31447719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2E250-023C-4FC2-B605-E9EB7577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EFCD2-65F0-4E3D-81B5-55F7C2CF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49C01-06D9-4858-B49C-CF2383CB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79E9-BC73-4DEF-9CAC-1425B79D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2FD88-A929-4F48-882D-B09E2F3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E37D6-193C-43C8-A55C-163F86D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2C55D-3EE6-4D51-BA62-7B6517CE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06B94-B5A8-42D0-A7C6-85833E5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15260-34BA-4854-BA81-43264526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1CA22-FC37-473E-A891-DA64E6DD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578-A9C4-4384-B309-F70F0EDC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6B02-C8F0-4FA7-B9E8-34C7DB65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96A08-A9CC-4CA2-B436-5F080DD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7254A-8785-4C4F-BAB0-04C4D0F1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2A3E6-958B-47A5-867E-22C1CCED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E68E-891C-4D44-9A5D-EAAAFEED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8E2C2-8C8F-4854-83B3-716D06D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BF425-0D2B-445E-A13E-630C680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15519-4FF0-4F49-8075-40507E9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80F23-DA62-4D76-B22E-BAB452C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43615-F7FD-4BEA-9A72-0282B04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224C-3714-4000-A3EF-69D1E539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281A5-ADF4-4CEE-8335-5FE52071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CD9F2-C22F-4BC7-878D-8E40B8D3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6BA27-C97B-4E7E-8B45-45F5BFD1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D49A6-64CC-4C02-99C6-55604541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CE749-BD5C-4EEC-AA15-0B11436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92AC4-6E65-45EC-9965-E33CD933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09402-699C-42D1-AC70-BFFB58EC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2201-8495-4E81-8B3A-E9D9A115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83F8A-3188-4F7E-A9E2-D3317D7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F2E12-B2BB-45E0-BB36-E75E73D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747-CAE4-416B-95F7-51750258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E3364-A812-4BEF-BDB8-6F49D33A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1B1F1-EDB0-4E97-B8CE-2CE2B30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119E-F5C6-4D0C-88CD-412C2D0B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8FBE4-3E57-4492-9661-93E3C2AD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2BF59-31A2-43DB-B0CA-B0F35624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11780-D224-451D-B4A8-77F828B2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94463-F6F8-46C9-8419-17DF92B5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5ABD2-1ED9-411D-B1B6-75DD7026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ADCBA-363F-452E-A060-0908F2B2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A08F7-62FF-4E22-8269-47DDB75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679F-A723-4DA3-8F9E-79BB493F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B3B93-E190-426F-9CD6-D6CDEC4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75453-216F-4B24-AB8E-2234799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A7123-1FDC-4731-912C-B8779C9B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77123-2150-41D4-B4E9-A83EBA4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77F20-6D03-4E1F-9245-2259A182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59351-373F-4688-A6EE-D23F5C60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91D3C-0BBD-47E4-AED7-1BF6D294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48EAE-F818-4EB4-B3BE-C277C4B5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C236E-C15D-49A9-ADFD-DDCD440D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7DDB5-BD66-48FC-A691-6270444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1EE-108C-4BBE-9C8D-E9EE0F8B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72919-AFD2-4CEF-B9A4-238D35B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EC5F4-9F8A-4893-8C72-DBFD1D6D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12BF4-A049-41CA-ADA3-900E80F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57BF6-A47B-41C9-914A-84C79C1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F106F-EE62-4E0C-A6BF-C38B595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E3992-99E2-40EF-8FF1-0F4F585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13DED-A471-47C8-8805-9A22137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8FAB1-F1B4-4C31-8046-E042EFE8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BBC5-FF6F-40F7-81DF-A6E471FE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01C91-151B-42C9-A04D-2E0C8A21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3AC5-EFE4-4373-8670-89189493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E2195-1198-461E-B3E9-9E14F955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5F507-46F4-4152-A861-123B50AF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C5390-A44F-449F-80FB-D4A2A11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58C72-BCF3-4741-B63E-494CAA2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8BC3F-9ADE-455E-AB53-5EBF927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EAE89-9A4B-4855-976F-6395C57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C959F-6594-4E15-BBFA-08B2B96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57AE5-9698-47E8-B152-6FA351B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5BDF7-270D-4520-AE5D-A8A4952E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C48A7-2176-4324-91EE-43CF9C3D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443F-A578-494C-9BB1-60E9734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51023-3AB6-4615-87B8-6C2C4655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AA03D-6C57-4291-9484-AB1FF9FF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0B8B2-624A-4B12-A524-2092F11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31058-7334-4864-A606-1CEE9B03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97D77-92CB-4F87-832B-4FAFB693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2AAB1-1F74-4F9D-98B4-4BD95AF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BF30A-0F1A-41EB-B8A2-344C48B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C5D69-697E-42F6-9D8B-A8C752B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AF825-CDED-4746-9790-84B3227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5E405-4D13-460D-9EDF-E8597CB7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FC36-88F1-4829-BA2B-330E0FA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8A1C5-E41B-4E12-B346-DDBCB84B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5021B-14FF-4F37-9152-AEADADFE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F401B-0E2E-45D3-95FF-766A6D6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DE8DE-9E87-4973-8678-A729E7CD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447FE-0D7A-4F41-ADBB-03BC110F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01C1E-CFE1-434B-A32C-E2AC0F9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8B685-5710-4178-8DDD-2CA0068C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62B3A-A9DA-4EFA-B528-EDC1E8C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E7301-594A-4CAB-A6D1-008E4F49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121EA-D228-482A-97BC-E9810C3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CFA-BFA9-4EC7-BF2C-D09F1BEB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4BAB-231B-4A9D-9AF5-ED0DBC3B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01D34-4B6E-4170-AA02-65A02BC7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4682A-E343-4D9E-B72C-210F0F6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13AAA-9EDC-4FD3-A6BA-6FBF7B84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7D503-A70B-4505-B88C-83D573DE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2CEA8A-A459-4B2C-B130-C6EA89CE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D9C0E-A986-4860-9C8F-90040393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75964-A2CB-4E12-8596-42B8FC2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D52B4-58BB-48CD-820F-91826831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05A93-0F36-4527-B543-B4CCD00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EAEE6-4766-472E-8577-71D73BCA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019-F3C3-4931-976B-B5F2862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EE44E-9A80-4358-A062-B99DFFC4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D1C1C-CA1F-488D-818E-24D11C4B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01E53-ED6D-4F7E-83EE-D961C31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7CFBC-743C-42FB-A0B4-B2D2CD35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EFCD7-8631-420A-ACEC-3D3330E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361C9-2FF5-442C-AACD-10E91E0A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534FC-86C9-4E3E-A6CD-2923B6CD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063AB-5A74-4F17-A683-179E57CF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B20D15-C9C5-46E3-8B6C-742220DD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699BE-29E5-40F8-8857-9719B239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5F9-B9A9-4782-80C7-FAE1DAD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C5BAE-A2DC-4DC4-A9FE-EBBCD26E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DF7BF-BD97-490C-B4FC-B733E17B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0E900-2731-4C5E-8D8D-2332F1BD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5598C-D200-4BF6-AF19-832CD3A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41F6D-9834-4063-884E-2F8649BA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470BF-A3EA-4247-803D-20ECFFE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B1840-C5A7-44FC-BFA0-EEFA19C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7443A-A251-450A-AE53-F60EC9DF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33F2C-4355-4B07-87C9-71247378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5148F-1473-47E2-80B2-3C867937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61E-DC22-4CE7-BA94-AC74CABC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14A25-39BC-4399-A4E6-56E46D18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6FAF6-814A-422B-8565-95EE5E1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91272-7936-450A-9767-3509C8A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351FD-81F3-4C69-8855-D81766A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7569C5-065E-42E1-8737-6D507808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F87D8-9469-4047-A473-E0B32207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D9104-01C4-4289-8A7C-C6C3B9F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41D7D-5A0F-4714-9273-D139D23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0077FA-0DC2-401E-BF36-696F34CB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8B5FE-7A4E-4A66-970C-762FEA6C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1E1F-51E1-4F8A-A506-86D735D1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0DAED0-96FF-4B2B-BFC2-00E4558F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3B6580-E668-4D27-9FA6-F692CA7B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335FF-954C-4C38-A031-0463A68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1DE9B-08D5-4317-A918-16A6197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DC494-6EFA-4818-B093-04BC6A0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026DC-927B-4243-BB5D-805E68C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A4AE6-5F10-4ED6-BC12-EDAB3889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FA9A1-B718-4E0F-B193-7A346A5D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2E0FB-6F4D-48EA-B145-685AB8C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C222F0-4BE9-4F71-B313-C4AA8CAC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CBF2-0BF1-4720-859E-3401B164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9E895-FEE6-4EF6-8419-4CC83E8F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E5829-6335-43A0-B760-6F5A29D5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992F8-E3CC-4B7A-886C-C7085752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E90B-118D-4861-8512-59144850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C659-C3CE-47DF-8EF9-26047B5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FCE1-FC87-4D37-A9D5-8CA25662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D9DD-8B78-4D8F-A1F6-EF40807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0AC-1702-492F-A080-862B7DE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44DE-5C42-426C-886C-5AD74930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72D1-88AD-4323-824F-F84A06A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1A8B-5C37-4016-931E-39A843D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9A28-98BD-43E1-AEC7-E98DFC56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0BDB-B49E-4519-ABC0-9FD823F1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33AF-2659-42EC-8215-D3703DFB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61FB0-5C08-4923-81BD-731FDED2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2A9F-9BDF-45D4-914C-9F7A486F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75F8-1801-4355-B92F-C22D1CBB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377D-CCB6-4D88-8585-0D2E9F6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433-A176-40CB-B5BD-1272A6FE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C724-0D83-4EDC-81FC-19F723AF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1854-7B93-4291-B55A-36D3EC4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2AF70-5D91-4172-BE86-4B1B0E8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2329-74E8-49C9-A736-58DBE0F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B99A-8435-4536-9B67-1C18FCE1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39F9-05E7-48E5-B38C-1EECC05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1280-1160-4A23-8701-2A1033AE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0D64-2E6B-44DF-B45F-5E411EA9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7E6E0-5956-4278-9CC3-C9A414EF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C6FA-C0D8-4320-B31D-58211A38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CCC-8C54-4B76-B05C-8503324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2A1B-40B4-4A09-BD2E-AED48F0E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5C49-BCAF-4562-872E-18F6404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1E591-9352-46B0-9F93-A8552587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747A-1ABD-46A2-AAF3-C4F8A7BC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E976-E785-4D0F-9060-B65AB0A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F4C9-3B3D-4116-A8C0-4B4F84D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422A-8D10-4D43-8523-AB532C7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3EE2-F6E0-4B80-BE5A-F06A72C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DBD7F-8902-4EAA-9A1F-56752C0E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B1F9-9A20-4599-A429-7CAA8DDA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DC9-1B0A-4BF6-B732-0B5D59A5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FE07-5676-45EF-AD9D-58A45B8F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DA2C9-D2AE-41EF-81E1-DDB40E49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58AF-942C-4967-A600-9D148CCE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E2DC-DF9E-451E-BDE9-F57826A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422C2-5F7A-484B-A93E-13068B49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7249-980D-4078-BFEE-5D5A71FE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8BD80-8A2B-4BBA-951E-D45F977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0B0EE-589C-49CB-BE75-CD8EE99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C71A-E4FA-4D90-A3EC-ADC27AA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0668-3C56-4C73-A5C7-56F02690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DD8-2FA7-4CE1-8E08-4664B30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2B767-F2CD-426D-A2E0-C150958F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72D6-4831-41AB-BE29-D09E2D4A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DB72-65F8-435C-BB94-5483D997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4D34-8EEA-4370-833E-5B1038D8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2AB3F-85C9-4055-8268-C9D8C60A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757E-C5F1-477F-9169-774F4A00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AECE-2311-48AE-BC93-799817D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8DE1-BF18-4B81-80E5-63C72CA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503C5-824E-444C-8FC8-7E7CA56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2685-09E9-4D71-BC39-9D89D47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891-8DD4-4606-8504-C6B1691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1EA5-02DA-4031-B6DA-A9BBE4F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6585-CD14-436A-BF73-28DE300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82F3A-5978-412A-87FB-9550CF6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F4D19-0C27-4D15-912D-D36ABA20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CF251-DC37-4911-AB2D-D7F2B751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DE2F-CDD1-4B32-8EF4-050894CB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E300-8E80-4A6D-898A-0163FDF3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A1FD-8898-44F6-9E41-94EEE698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40878-798D-49D1-A81F-1E079D41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9806-45BA-4DEA-B04F-43701352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7AA-FBDF-496E-B991-559E2ED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0A783-FD62-45AD-917F-C3AE95A1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5D0BE-53B9-4376-806F-E931730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CF54-9F35-4455-B4EC-34881A92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F856-41F4-4B37-AD17-DA5703B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8B4A-072A-4C2B-B753-D3F6FDA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8AB1-7792-4CFB-8112-A00BDB13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E5DC-5932-4B1A-92B8-E9A6BB51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2DD6-3A52-4E06-8597-CC2B4DB7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CBE0A-07D2-468A-88C3-75548B3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AD9A3-AC2E-4C3A-8708-7946FC9E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6C6A-ED8E-465C-8020-E81CC0C1D3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7DCD-CED6-457A-B447-E0945721B5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954-F891-49EA-832F-2F7ECCA45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6D5-FD37-41B1-B889-40892DF35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ED1E-E4D6-4B82-94A3-2FF5E431E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D37-77C7-49E3-9AE2-6259AA10F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E31E-BD23-49A0-8B65-E1FE9BD95A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636D-5F7D-49D4-8D5A-B1F49E4D7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5D6-D9A9-4158-85C3-D9DAEC257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1832-FAAA-4184-BD37-DA8176523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69DD-A503-4770-BBEE-7A2699C7EE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560-1563-4EA4-9D2B-F4F5E5A762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0CE4-0024-45D2-BF7C-8D00DEC83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273-6F39-4714-8FF3-6D25D3B43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017-92BC-4235-8B6B-6A6DBB712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4A7C-2038-4A2F-A64B-CFF90507B0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03D-735D-49D2-A1DA-9B9940250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6F63-9D31-43F5-B468-C3A05D092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1E62-6764-48B6-9669-4368C6BCD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65D-ABF4-40D4-AD7C-A926CD68FF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173-0D75-4A36-ABFE-349160818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872-8F9D-4C66-B5D4-16163163A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3D09-F341-4756-8AFE-FDE34BC4AF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6FF7-7703-43E3-BBDF-D4E6DA09C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D5A7-425B-4D47-BEA6-13D95BD68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3AD0-5A46-4074-B278-DA542E1D9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9952-0CC3-44D9-A92D-921DA813C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099-D75A-40B7-B86A-8F879E762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1C7D-F844-46D6-A7E8-FD64B9E8C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5C0-50D5-4842-8857-F59ADBC27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5B60-BEF3-4017-8122-379D3BA6D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F51-61C4-4ED5-A8A6-0FD430A17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29F-461A-4274-A22A-C12D75294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D7BA-BE6D-4A25-A7BE-590EAC2159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685-6F0B-4175-B595-CA2310AC65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9DF-644D-4ED8-BFE6-B745C17BB0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695-7300-4C7A-8A2F-C4E25A8E7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1D86-2467-4F96-A4AD-8F447E050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3B5A-5864-4460-A1B2-4E90C0C4C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DA34-BF11-40B5-A7D8-6A11AACA7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4680" y="1297080"/>
            <a:ext cx="382896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442800" y="2971800"/>
            <a:ext cx="82584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9633" descr=""/>
          <p:cNvPicPr/>
          <p:nvPr/>
        </p:nvPicPr>
        <p:blipFill>
          <a:blip r:embed="rId1"/>
          <a:stretch/>
        </p:blipFill>
        <p:spPr>
          <a:xfrm>
            <a:off x="1285920" y="907920"/>
            <a:ext cx="6572160" cy="216216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9634" descr=""/>
          <p:cNvPicPr/>
          <p:nvPr/>
        </p:nvPicPr>
        <p:blipFill>
          <a:blip r:embed="rId2"/>
          <a:stretch/>
        </p:blipFill>
        <p:spPr>
          <a:xfrm>
            <a:off x="600120" y="3408480"/>
            <a:ext cx="7943760" cy="21812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197240" y="1125360"/>
            <a:ext cx="576360" cy="790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7207200" y="113976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4356000" y="194472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7380360" y="193032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1922400" y="364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4917960" y="364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8013600" y="365904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1763640" y="452268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5133960" y="447984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8028000" y="4508640"/>
            <a:ext cx="5763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760320"/>
            <a:ext cx="8591760" cy="5981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2867040"/>
            <a:ext cx="2305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576360" cy="1079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627280" y="4653000"/>
            <a:ext cx="576360" cy="1079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124000" y="5848200"/>
            <a:ext cx="29527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95440" y="1866960"/>
            <a:ext cx="7953120" cy="3124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1657440" cy="863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743200" y="4335480"/>
            <a:ext cx="21891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651640" y="4321080"/>
            <a:ext cx="280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419040" y="1380960"/>
            <a:ext cx="8305920" cy="4096080"/>
          </a:xfrm>
          <a:prstGeom prst="rect">
            <a:avLst/>
          </a:prstGeom>
          <a:ln w="0">
            <a:noFill/>
          </a:ln>
        </p:spPr>
      </p:pic>
      <p:grpSp>
        <p:nvGrpSpPr>
          <p:cNvPr id="933" name="组合 58377"/>
          <p:cNvGrpSpPr/>
          <p:nvPr/>
        </p:nvGrpSpPr>
        <p:grpSpPr>
          <a:xfrm>
            <a:off x="1403280" y="2938320"/>
            <a:ext cx="6193080" cy="1570320"/>
            <a:chOff x="1403280" y="2938320"/>
            <a:chExt cx="6193080" cy="1570320"/>
          </a:xfrm>
        </p:grpSpPr>
        <p:pic>
          <p:nvPicPr>
            <p:cNvPr id="934" name="Picture 1" descr=""/>
            <p:cNvPicPr/>
            <p:nvPr/>
          </p:nvPicPr>
          <p:blipFill>
            <a:blip r:embed="rId2"/>
            <a:stretch/>
          </p:blipFill>
          <p:spPr>
            <a:xfrm>
              <a:off x="3276720" y="2997360"/>
              <a:ext cx="43196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1" descr=""/>
            <p:cNvPicPr/>
            <p:nvPr/>
          </p:nvPicPr>
          <p:blipFill>
            <a:blip r:embed="rId3"/>
            <a:stretch/>
          </p:blipFill>
          <p:spPr>
            <a:xfrm>
              <a:off x="1403280" y="2938320"/>
              <a:ext cx="1440000" cy="157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1" descr=""/>
            <p:cNvPicPr/>
            <p:nvPr/>
          </p:nvPicPr>
          <p:blipFill>
            <a:blip r:embed="rId4"/>
            <a:stretch/>
          </p:blipFill>
          <p:spPr>
            <a:xfrm>
              <a:off x="2700360" y="3198960"/>
              <a:ext cx="1727280" cy="80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266760" y="763560"/>
            <a:ext cx="8610480" cy="5905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377352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5398920" y="378936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403280" y="6021360"/>
            <a:ext cx="3745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71440" y="884160"/>
            <a:ext cx="8601120" cy="5353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403280" y="27957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5219640" y="27957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03280" y="530064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076720" y="5027760"/>
            <a:ext cx="30974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47680" y="757080"/>
            <a:ext cx="8648640" cy="5343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84360" y="2651040"/>
            <a:ext cx="316836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11280" y="4437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39640" y="50133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468360" y="567540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4500720" y="501336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0"/>
          <a:stretch/>
        </p:blipFill>
        <p:spPr>
          <a:xfrm>
            <a:off x="4356000" y="566100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658000" cy="54957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2843280" y="345744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780000" y="4033800"/>
            <a:ext cx="129672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403280" y="458136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2050920" y="522936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835280" y="5834160"/>
            <a:ext cx="129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2231" descr=""/>
          <p:cNvPicPr/>
          <p:nvPr/>
        </p:nvPicPr>
        <p:blipFill>
          <a:blip r:embed="rId1"/>
          <a:stretch/>
        </p:blipFill>
        <p:spPr>
          <a:xfrm>
            <a:off x="662040" y="2533680"/>
            <a:ext cx="7819920" cy="1790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1800360" cy="493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1800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989600" y="3097080"/>
            <a:ext cx="152712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8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